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56F1-9B9C-4C53-83D0-34EB37FB6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2DF-1810-45D2-89A5-E87AB849119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539A-6D56-4363-ACE8-A7C116B2398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76A2-8DE0-4DAC-A59C-05D29EC5F98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7B2C-B2A7-4CB8-8C11-B1CC4EE3635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831F-9425-4E53-8BFA-53C4F8214C7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AA53-B286-4881-B74E-09F44F0FAB4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A900-3517-48D5-99E0-4892F83C964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8E52-C9B1-4C2A-BC3C-F50D4FB8235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95BC-50A6-40B8-B40B-08BAC6636A6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391F-0F48-42FA-9DBF-95AEA79CC7E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D67F-E404-4188-B6A6-FE47474B40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0FEF-C03B-4A4A-99CD-7BC93D95267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096C-9103-494B-B77F-178F504FD12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BBA8-379B-4FD6-8C6F-9651F89B56F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6B12-E1F2-4C74-84C8-E94D7C27FD6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ED64-918F-4D46-B6E1-E0028B4B6B1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23F8-1EB1-46DB-BB7D-33A0486097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243A-C1FE-47F9-93EF-E15DD307FE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15E5-87C6-4F09-B0BF-4CACD79C028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A076-FF6E-48C2-8867-7F9B3B213A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A0AE-F99E-4951-A16A-D25D30EC075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28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ТЕРАПИЈА КРВИ И ТКИВ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390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Наташа Ђорђ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боке венске тромбозе и тромбоембо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а терапија (високе до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илакса (LMWH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мале доз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арна: хируршка и медиц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кундарна (алтернатива кумарин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мбозе и емболије периферних ар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тни коронар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и инфаркт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табилна ангина пекто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хепа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дот: протамин сулфат (базни полипепт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мбоцитопен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верзибилна, тип 1 (агрегационо деј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шка, тип 2 (антите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гуће тромб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опе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еопороза (хронич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рентерални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хибитори тромбина (II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рудин (Hirudo medicina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пирудин, десирудин, бивалиру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мена за хеп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омбоцитопенија изазвана хепар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иопл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ибриноли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птокиназа (Streptas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урокин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атори плазмин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кивни активатор плазминогена (t-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ација плазминогена везаног за фиб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омбнантни хумани проте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теплаза (ActilyseR) - немодификов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теплаза, тенектеплаза - модификовани (дужи Т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стрепл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умани плазминоген и стрептокин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утне тромбоемболије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аркт миок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ућна ембо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хемични мождани инсул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ферна васкуларна окл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мбозе великих 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асност од крвар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р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ептокин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ајне контра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ерфузионе артим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хибитори фибриноли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хибитори плазмино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догени:инхибитор активатора плазминогена (P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псилон аминокапро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ексамичн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хибитори плаз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догени: алфа-2 антиплаз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ротинин (Trasylo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а крварења због патолошке фибрино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итамин 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тонадион (К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накинон (К2), -дион (К3), -диол (К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портомбинемија у новорођенч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лијарна опструкција (фисту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апсор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протромбинемија изазвана ле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озирање оралним антикоагуланс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грегација тромбоц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аген &gt; GPIa/I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он Виленбрандов фактор vW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GP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мбин (IIa) &gt; PAR1/PA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бриноген (I) &gt; GPIIb/II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клооксигеназа-1 (COX-1) &gt; TX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D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P2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P2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грегациони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енопири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пиридам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енте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атори GPIIb/II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коагул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агонисти витамина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тромбин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фактора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енте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парин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нискомолекуларни хепар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ректни инхибитори тром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ндапаринукс (пентасахар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спи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реверзибилна инхбиција CO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ција TX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ске дозе, 50-320 м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фикасан и јев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неким индикацијама могуће комбинације са дипиридамолом и клопидогр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гућа толеранциј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ком дуге при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грегациони леков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пиридамол (Aggrenox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ција фосфодиестер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мулација аденозина (А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имулација аденилил циклазе (цАМ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енопири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клопидин (Ticlodi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опидогрел (Plavix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тори P2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ергизам са аспирином у А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тропенија и тромбоцитопенијска пурп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а и профилакса тромбоемболизма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онарна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реброваскулар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ферна васкуларна инсуфицијен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тернатива оралним антикоагулан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 из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локатори GPIIb/II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интегрин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циксимаб (ReoPr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- хуманизовано моноклонско антитело (Фа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тифибатид - циклични пепт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рофибан (Aggrasta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- непептидни мали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вентна кардиологија: акутни коронарни синдром, уградња ст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арење, у до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парати гвожђ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ално: феро сулф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рентерално: гвожђе декстран, гвожђе сук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: хипохромна ан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ицит гвожђа = (140 х хемоглобин у г/Л)/140 * 470 мг * 5 плус 500 мг (попуна депо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рално: надражај гастроинтестиналног т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рентерално: алер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парати еритропое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ритропоетин алфа и б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лфа (и.в.), бета (и.в., с.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рбопоетин ал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ужа елиминација, примена једном недељно, супкут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: анемије код хроничне инсуфицијенције буб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: хипертензија и тромбозе (претерани пораст хематокри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актори раста гранулоцита и макрофага као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Филграстим – гранулоц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-C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олграмостин – све крвне ло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M-C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нограстим – гликозилира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-C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: опоравак беле крвне лозе после примене цитостатика, инсуфуцијенција костне с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: болови у костима, стање слично грипу, едеми и изливи у плеури и перикар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олна киселина и препарати витамина Б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Тетрахидрофолна киселина – активни обл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Хидрокси- и цијанокобаламин (Б1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едостатак: мегалобластна анемиј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уникуларна мијелоза (само витамин Б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ект неуралне цеви (фолн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олна киселина, орално 0.5-1 мг (дневне потребе), 0.5-0.8 мг (превенција у трудноћи), 5 мг (терапијска доза, труднице под већим ризи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тамин Б12, интрамускуларно, 1-2.5 мг (терапијска доза), дневне потребе око 2 мц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ОМЕОСТАЗА ТЕЛЕСНИХ ТЕ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мин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страцелуларн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ahoma"/>
              </a:rPr>
              <a:t>33%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зма, интерстицијална течност, ликвор, интралуминална течност у цревима, очна водиц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трацелуларна теч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ahoma"/>
              </a:rPr>
              <a:t>6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молар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нцентрација појединих е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рмаколошка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нцентрација фармаколошки активних е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внотежа између узимања и излуч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рацелуларна 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кстрацелуларна те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ханизми хомеос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тидиуретски хор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лдост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ломеруларна фил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ални антикоагул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витамина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ивати кумар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рфарин (Far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аценокумарол, фенпроку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ивати инданд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ниндион (рет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тром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бигатран етекси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хибитори фактора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вароксабан, апикс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ФИЦИТ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мањено уношење/повећан губи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еђ, црвена кожа, суве слузнице, тахикардија, олигу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алуцинације, делиријум, хиперпноја, 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нфузија 2,5-5% декст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ИШАК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о уношење/смањено излуч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мптоми (’’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Синдром интоксикације вод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’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лавобоља, наузеја, повраћање, грчеви у стомаку, ступор, кома, 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граничење унос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узија хипертоних раствора НаЦ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моларност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упна количина растворених састој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90 mOsm/kg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центрација састој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екстрацелулар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4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екстрацелулар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,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екстрацелулар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екстрацелулар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ЕРНАТР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Губитак воде без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/примена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без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докнад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мањење уношења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орсирана диу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ОНАТР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Губитак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/ретенциј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узиј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Cl (+Na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,9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-5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стрикција унос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ЕРКАЛ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државање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прекомерно уношење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лабост/парализа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мећај рада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граничење уноса К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оле за размену кат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сулин, NaH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хемодиј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ОКАЛ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ањено уношење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повећан губитак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лабост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мећаји рада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на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инфузији KCl 1-3mмol/kg/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er os KCl 1-3g/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ФАРМАКОЛОШКА 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рацелулар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кстрацелулар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7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ahoma"/>
              </a:rPr>
              <a:t>Регу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Плућа и бубр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Пуферски систем: протеини, фосфати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х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ремећаји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цидоза и алкал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СПИРАТОРНА АЦИД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пресија дисањ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хиперкапнија →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прављање д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говање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4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4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pH артеријск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СПИРАТОРНА АЛКАЛ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вентилациј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хипокапн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ксиоли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говање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46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pH артеријск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мар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ција синтезе фактора коагулације II, VII, IX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ција епоксид редук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енерација витамина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ада карбоксилације фактор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карбоксиглутам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 антикоагулантни ефекат (пар д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ромбинско време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љашњи пут коаг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љне вредности 2-4 (у зависности од индик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ТАБОЛИЧКА АЦИД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убита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прављ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сновног поремећ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имена Na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5[l/kg]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[kg]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(nkb-ikb)[mM/l]=D[m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говањ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лектро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ТАБОЛИЧКА АЛКАЛ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убита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 К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/прекомеран унос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докнад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убоке венске тромбозе и плућна ембо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тно: комбинација са парентералим антикоагуланс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ундарна профилакса: више месе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ријална фибри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илакса тромбоза вештачких валв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кума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ње: плазма, витамин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не нек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кротромбозе (протеин S и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а нежељена деј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тогено деј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ојне инте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 пурпурних пал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колошки значај (тровање родентицид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ови орални антикоагул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бигатран етекси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фикасан у превенцији дубоке венске тромб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ивароксабан и апикс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венција ДВТ у ортопедији и емобилизације код атријалне фибри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дност НОАК: није потребно одређивати протромбинско 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 НОАК: крвав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епа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шавина мукополисахарида (гликозаминоглик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фракционисани (високомолекуларни) ~15КДа (U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тализатор (активатор) антитромбин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кционисани, нискомолекуларни (LM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ноксапарин (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lexane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далтепарин (Fragm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надропарин (Fraxiparin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лективни инхибитори фактора 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апароид (хепарино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осредно (брзо) дејство (интравен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ција унутрашњег пута коагу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a (тромбин), IXа, Xа, XI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дози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ктивирано парцијално тромбопластинско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T 26 - 33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ст фактора Xа (нискомолекулар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8-09-10T18:36:42Z</dcterms:modified>
  <cp:revision>16</cp:revision>
  <dc:subject/>
  <dc:title>Slide 1</dc:title>
</cp:coreProperties>
</file>